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C018-F057-4B8F-AE1E-C09A098C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B039-80A0-45F2-B1FA-3E0BDC64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E365-CDD0-4EE3-9509-49965C95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1DEE-7493-4DCC-8C60-167CD634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9F81-79EC-4985-A68D-0FE5C55A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81DA-71FB-4C46-8E3B-64FF7CA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354-B235-478C-A635-15A53877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8AB-3760-4BA7-AA1B-A6CFF682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B575-6BFA-46F5-A590-AD0658F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6F2-DFF0-47E4-B2B7-A59AA04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188-EBB7-460F-B47D-4F72DA93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53E8-7960-490D-A8FC-CA19735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FEC-94F4-4FD9-8FEA-4B5F349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500-B2DA-42FF-BF12-2B2ACC39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024F-1FB1-46B1-8B20-CC02ECE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70D-7E53-4A2A-A807-346829D0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5352-45C8-4741-9D6C-955B4481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A857-D6AF-477A-88AF-BBAAE442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1A46-E306-4574-AE57-98FEBB9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58B0-A4EF-42C0-8464-559B427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0F95-EAE8-4244-9FE9-E1B4E83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FBAD-9394-4924-AF5B-B100B57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8D4A-1CDE-486A-85C3-DE8CBDFE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11B6-23D0-4A2C-A048-0234E4A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CFCA-9358-4AE5-8D64-9FDBF5A66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DA98-1014-41BD-87DA-CB9F8670A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emistry of Lif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 3-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ate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fe began in wat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ving things are 50% or more wat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eded for chemical reactions, transport materials through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d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as many unique proper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72320" y="3276720"/>
            <a:ext cx="237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The Nature of Mat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atter:  anything that has volume and takes up spa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toms:  smallest unit of matt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ons and neutr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cated in nucle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ectrons orbit nucle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58080" y="3772080"/>
            <a:ext cx="3085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lements:  made of only one type of atom – cannot be broken into  a simpler form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amples:  carbon, gold, hydro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cated on periodic ta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060720"/>
            <a:ext cx="5790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mpound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2 or more elements chemically combine to make a new substa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olecular compoun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different atoms SHARE outermost electr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onic compound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different atoms give away or take on electrons from other 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841480"/>
            <a:ext cx="6477120" cy="374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5812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314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ixture:  substances combine, but retain original properit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an be seperated into original material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s:  Kool Aid, salad dress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Compou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ways contain carbon and hydrogen and are associated with living thing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H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bohydrates, proteins, lipids, nucleic aci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arbohydrate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supply energy to cel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ugars, starches, cellulo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ipids: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energy storag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ats, oils, steriods, wax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tein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 building blocks of cell, make enzym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ucleic Acid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store coded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NA and RN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9:16:26Z</dcterms:created>
  <dc:creator>Teacher</dc:creator>
  <dc:description/>
  <dc:language>en-US</dc:language>
  <cp:lastModifiedBy>Teacher</cp:lastModifiedBy>
  <dcterms:modified xsi:type="dcterms:W3CDTF">2008-12-09T19:30:20Z</dcterms:modified>
  <cp:revision>2</cp:revision>
  <dc:subject/>
  <dc:title>Chemistry of Life Ch 3-1</dc:title>
</cp:coreProperties>
</file>